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27DB-E04C-4EA1-94B0-0CFD8640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82BD-68AC-4037-B47C-864B4F43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9351C-5F20-4830-8D0E-949AACEF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00E65-EB54-46D3-A9B5-97978395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32485-630D-4CE9-B085-83CA5140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6C969-8E71-44C8-844A-40523273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C794B-33A9-46B0-A06C-A2A91FEF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956B3-7506-4709-91BA-61B2FC67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89C84-E3F4-42FB-A773-11E07F3E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D90C3-12BB-44F5-AEBB-27C1B0FB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AC43A-D943-4DE4-9606-82C8F6BF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07DC0-220D-4BD9-934B-81191987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0B43-83D3-4D9C-A1DA-1D625370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61809-A9E6-4BE5-BC6A-66A9DAB1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B5387-4EF3-477D-95AD-A1544CC4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F7619-EBA3-4DB7-99C3-2CFDAB0C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9DCB1-739D-473C-963B-6F12E122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625FC-D1AF-4624-B947-A69A6B8A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3021A-7A42-450A-9917-E94F8F55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04160-AF2B-4808-8394-C67C67D2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1D632-EF53-4711-8E59-F6970D38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0A026-D8A0-4F4C-8407-29EE81FA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3E227-E253-4761-9ED9-F8416E93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C213-1093-480A-98CF-FC4E91D0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2074C-2612-4B70-8CF7-F5DC6F17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FFBDF-1FEA-464B-A9B5-1BDBBBE6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ACB70-D039-4B38-BDBE-DEEADE20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D3967-5ACE-4C07-84CF-96F0097F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72139-FE57-4829-9052-75DF8721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9D262-295B-4C6B-8B95-5306C81F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F2196-6D4E-4432-8104-5A256E57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29587-05A4-480C-B2F8-8082E672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56848-2B08-40A5-B327-7B5E2E1D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28D12-9121-415B-A753-263AE7D3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463B-8894-4243-90EA-183E998E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DEB1C-3709-4E6A-8B8C-F6315ADB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EF85A-06E1-493E-9164-418BEC35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0E495-9B72-428E-8D8E-95CC4492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D4D7E-4A7D-45C3-900D-C97E6694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B2217-FF03-4197-B5E3-F34FB6AE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EF797-73C9-42FE-9576-3E29EE4C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7D4F7-A5CC-4B89-9B8D-470E8F55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177B2-9DF8-40EB-9FD7-574A1A0F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B947D6-9958-4E05-8FDD-651D3C00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CC8BF-F998-4AAF-91BB-0BD50762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06F1-717A-4F3D-871F-0B0DFC43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EC73A-8ECE-4DB9-847B-CA472194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CDAE9-D911-446C-8BCE-1C09DE96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C2CB3-D886-45BC-AD49-5A9AB1E2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BE73E-0AF0-4719-8943-57FEDFED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F031E-CB55-40EF-A1DF-3ACF3CFF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2801B-DA8F-4E2F-94C6-2EED2F00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62CC1C-EA55-4396-ABC1-35AB49E8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8F9F37-4C06-4063-B783-8BB891B8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4C371-471A-4377-915C-0EE2F4F4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3698F4-923B-40E8-A111-47C0D105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93DB-E258-462E-A117-C0AFCBF0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B9F6E-F959-493F-894D-497DC415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233E8-1962-45FB-A2A9-41C10E5C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754C5-AEAB-4583-961B-01F7CAE1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135D0-2E20-4EBA-A527-D33A0927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4F96D-AFEA-4D46-B9AD-922B8D62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49A84-69DB-48AD-B475-E44C14B0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D87B30-A038-4C82-989E-9D64BE1D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17B8C5-C166-40B5-AA37-9D39792A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014B8-22FF-4190-9AF1-2EF6B11D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15E99A-52BC-48F7-9225-98CCDDDD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677F-7579-4CB2-9326-91308B1E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D2859-0C28-4C51-967D-49ED9A0C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F6CF97-0D78-48B5-8C26-18E5C62D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F8626F-9CDE-485F-BF6B-60F597EA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1297A5-B9BE-4F6D-B9FF-7467992F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421B3-3799-4B1C-AC95-C188614D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C5684A-81C5-4FEB-8284-B51BBF4A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18FB3-DCCE-4808-B87F-25B3F52C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C1DCB-A03E-49BF-9DA5-FBEFDDBB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F62549-7FBB-4E57-A1CF-0F971F35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FB653C-5ABE-4098-9CFF-BD1200C2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8483-F6F2-4DAD-9989-B4F7D150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A93C40-E9D1-4C18-8F39-E3373667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9A5E2B-C07D-4630-8AE6-929373E5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8F52C6-29A9-4FB7-99CA-22C1E064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5F0507-6F72-4AC7-BD09-9A03A3F9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F3724F-A7F3-42AD-A02F-BB68A846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9FD58E-26B7-4D28-B9FD-126D8409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F6ACC6-645F-4571-A370-F6CAFFAD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D146F3-BEE3-4AF2-8589-EE2355A6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C6E7F1-29A2-44C7-B0CD-194BBFC2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3F8C49-9C37-47C8-A03B-64B85AD6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D768-350F-4859-B7E8-AB152279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F79366-6CBD-41A2-A5D7-061A6353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50923C-04DA-4C7B-97AC-30CC120E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61A3B7-6D71-4476-83D7-55E81544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56EE61-64A1-4296-A9BB-222FCB3A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EA43D7-3D6E-4E95-8576-49B4286B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51A484-D992-46AF-B5B0-40C45C9B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DDD669-0E4C-4E6D-AFC1-FD8678C1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26952C-2BFD-43A6-B88B-A2B27F05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D4B632-E792-4B5D-980D-C4A3C0AE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78D937-1C99-47DB-89E4-8EE7C1FA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C250-4DAB-4695-BA34-0690892F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369797-C6E9-4BA9-8ECC-25763FF9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BB60B5-8432-444D-9152-62046827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788B47-77C2-459B-B07F-B13D9E8D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961A5E-995E-405B-87D7-3BA56659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F9DEEE-9088-4695-89B8-40BC1AB4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732E19-2479-4A62-AC37-8AE796D7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302D91-FCF8-44A0-B507-495BA00B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EAFAB2-EA16-4399-8BD3-9D24B945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66F94C-4D80-4FD6-BB86-55002057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4A1B98-E06D-4FAA-A097-469D48A3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2B8-BD07-4904-9FEA-1916B498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C557-825E-411E-A0D9-F9A8119D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75E7C2-FDBD-45F3-9D2A-4FD9EC39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5C5329-AA30-434F-835A-8401C0C7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0CDE59-5A7D-47DA-B2AD-EFDC2899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80224A-F2E6-487C-8C00-C3231AC6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61FCC2-4899-4738-8D6E-974FBC9A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970BD2-02F3-42BD-9235-9D1EAE1A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71B782-B370-4E58-AC0B-43852351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0885DE-2BF9-42DB-8B88-D84957F0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73D60C-7326-4A0D-BAB1-7025D5E4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DF5A07-5CF5-41C5-8E0A-7695F10F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AA00-F1C9-4008-BBA2-5D023494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50E6A1-8608-45B5-B8A5-AC4B3C89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8ED621-9A6E-4AF8-A4E8-013D250D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3B5B65-BCEE-4E4C-BE57-DD4A5EA8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33E374-C709-4A89-98B5-2AE18040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9E8488-E2EC-480A-BAB8-76508251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EB4BE1-A570-4E51-8620-493F2CA9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C83115-97AC-4D38-B3C7-D312D309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A9C498-00A3-491E-809D-2A07E8B3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617460-1894-4AF0-8B9F-2971EC3F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D45737-D75F-41C4-9A07-ECA9BD07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5346-CEEA-4934-8AF1-5D404EEA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CFF12B-372E-4C61-8025-8558BFFE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267889-1674-44C4-A9C5-FA30CDDF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A252B0-BD7F-41BD-9833-A7D6317A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C0FB58-C51C-4647-8305-F946B8A9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68FC84-810D-4484-A5F6-6FFD6758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D48640-19DB-43CA-8952-216DF233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D1039D-E4CB-426C-A05B-7E32874F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2019FF-6EDB-4952-8874-81BA101D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4279FA-CE4D-41DE-B373-0B8C1DE8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6383C5-E639-4C74-A087-4092C3CC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B2FE-AF7D-4827-95F4-7AEA2903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C08978-8D3D-4239-AD7D-CB46E6EE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1755EB-3EEA-4732-9FA5-FA2A1A1C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56890A-9E78-49BE-9996-5AA93A2E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152B75-F6A2-4065-9CFA-D283ECFC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8B38C7-E31F-4505-803A-848B04C4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83836F-32F1-4610-8B85-6C42764E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0FCE76-798C-4A4C-A33A-4D55A16D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362B2B-6F16-48DE-A1FC-FB642691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222FBA-7903-4D59-A2E7-90F06AAA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E825F1-5A57-4DB8-89F4-AC338ABD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B265-D508-472E-980D-01DD0ECB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F2C6BD-8DBA-41EB-A422-98001488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D1450A-1816-4140-B38B-5EC6DE52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885753-F771-4B02-9073-5C975C8A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384A65-F374-4CE8-B0D0-FF4A3A50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9EF41F-BDF0-44A9-972D-BA4025B6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4CD640-CE1C-4089-8F2F-2EC242A8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4E5B83-804E-4C1F-8EA7-4D7ED1FA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30CF1D-6527-4DF5-BC0E-6E6346CA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268A6B-949B-4804-A595-4CA402C2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FC08B4-BA89-497D-82C6-9ED9DAEB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0E264-CF71-4155-8366-16F302CC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3BA76C-E29C-4B55-8938-F960FF9D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C605AA-BEEA-47C3-BBD4-5F6A3DCF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19B100-34E1-438B-9BC7-9D8D742B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1DF3A-6F23-47F2-8510-C9A283F8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2E2D8-2315-403A-8A80-7E26283D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C59B9-7957-4760-8582-6FCC6F05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88443-49C7-4B6E-A9D3-E67C6A59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A65-84EC-4BC1-8464-8866AED6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F9962-457E-4C04-AAFC-72A2B193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FC665-0F40-4973-83FC-D8B247BB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DF175-1521-4BFD-BDCC-080AE72B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E54D7-2896-41E9-AD7F-3A5B2E72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A04C7-22AA-441F-BF40-B422FB02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492BF-2B4C-42DC-B4A3-437D6B17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9D6DB-6967-438B-8D5E-236A996E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48E42-FE7A-4D26-9C24-99F38438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8EAE2-47B9-4BD6-8A5E-01654D44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3CB59-2278-4696-AC34-AAA76F4B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3DB-8C9A-42FE-B806-750D356B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B040C-01CD-418B-9374-CF945F4F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EB699-D2D0-44B1-AAE0-0886B903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4A754-D74B-4E65-B405-F0EC17C7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A3B38-9091-4FCB-B75A-0ECD9610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ED9B9-8267-47F2-B809-B69827A4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09232-93F2-49B4-81AC-8E02B559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C03BC-4201-46A1-B694-2E3E8CE2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6D0FF-E6AC-4DB8-A2CA-CFE10B8C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1639B-F855-4B2D-B667-02203990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34106-9691-4F1D-B897-712F2785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49EE-B426-47FE-8290-8E5796B2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B8833-A8F7-4E16-938E-1109F9A3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E27FA-9000-4020-A58B-27419154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8027A-B54B-4D17-B769-AE13124B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6BC15-666B-41EF-B6DE-7197FD37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F5B83-C1B1-4DB7-8826-1DBCFDEA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FBA46-EFD9-4736-A942-82021BAB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5D022-0A67-4A78-9D62-CE11260C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AF366-0F06-4C1E-A300-0F80B93A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DB4D2-06E7-42D0-8CCA-5C4A3E57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58BBE-D6B5-4469-9CB0-08ED1FBD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00D-15E7-4F03-8BCF-9EC89DD9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576E7-BAD6-4D88-B1F9-39594CF0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6FC04-B9BC-45B9-994B-9FC8F0F6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A09B5-CC99-4426-BECF-63462D9B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B7683-098E-4264-ADDE-B075C00D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60ECB-ED32-47A9-9906-A1885BE8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7AF16-46EB-4F1F-A264-27415687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2AFA1-189E-40A3-9708-EB8EF91A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5BA2E-1D1E-440B-844D-84AA5D6B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B4E65-369F-4487-AC8E-F183E9A2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0A3B3-BFC5-4A54-A110-914AB417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36B2-1F48-4B90-9B21-10621975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2932D-F5ED-4679-8401-AFBBF520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4168E-EEA4-4CF6-A2F1-BDA677DB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4B062-1B12-4C9B-8E20-63343FA2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19331-85FC-45DF-85C8-A9409504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F4206-CE3A-47B7-8348-5A065816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66DD7-0165-4E52-9E84-5122A05A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FC2A0-F15D-4980-A020-0FA3DD36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81B22-C340-4E5B-810E-4E437D97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0FA94-62E5-4BEC-A7FD-03069069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65551-4A52-4E01-A102-B0BD3EF7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AE3-F361-48CE-9FD8-A44DFC54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D731C-A461-479F-A6B4-B4207E81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C87F2-782F-4604-B373-105635E5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9B312-7194-4138-8774-8AA643D7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A1EAA-EBB7-4614-B441-4F3FC345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B55DA-F078-4885-9FB6-2438436C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F8B8A-26BA-4864-B68B-0AC46410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BB966-200A-4AB5-83B9-74BC8DC9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BD99C-CBA0-4B51-A785-103039AE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5581E-081E-4B67-A3F4-54CF6C4E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828F5-2422-4E48-A792-D2107BD4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3FC-90A1-41C4-9D44-6C04F94D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AC0DA-FD0D-4730-8FBF-B7C34A5E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6E05C-8D18-43BE-A7FB-0BBFA562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FADF7-F539-4CBE-9925-004A913B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4FD44-60F3-4D4F-9114-38090791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A8EB7-9BB6-4BA3-B91B-D2BC6DB9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7BA6F-09D9-4986-8105-62B8FB6E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6F084-5483-4A26-BBA6-4DC2F165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A0457-5132-43F5-BB18-A7F7192C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AC458-BABD-43E9-B469-42173C07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52A3A-716B-4CB0-9246-E9DBBBFE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4810-96DA-4025-AAD9-0C6704FC13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5983-8FAB-44C3-9812-91A74C0F53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9645-147C-4925-B992-2D712EA5B0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79D0-4FC3-4323-8814-742E98DA0A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0986-69FD-494F-830D-F6ABD24983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77F7-D505-4D23-83E4-D605AD99B9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EE53-94AD-4CD8-A9AC-8B53999724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DBF6-8E19-4FCA-83E1-3123831026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77EE-34BA-4E67-A5F9-702B6B8BEF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D154-DBFE-4DB0-B130-33566AF0A3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AE75-8E5D-4E2D-B474-74720F8366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DD27-86A0-4A1E-AA2F-5D8F2074B9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13C4-B1B6-42C1-B86B-5DD86AF0C8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795B-BFFB-4E61-96E1-7FD33C45FD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8122-1A49-4B9E-8436-59B2D90DD9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B526-FED6-43D0-A77E-E323C8A934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8DD9-8A2F-4C9B-A398-367BCDC660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C480-1C61-473F-9B93-4F2FB747F5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E7C4-9637-41F2-AF2C-15C9C49EC8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32A7-A289-4416-9934-DDCAF2E3A3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EE3C-5B68-4083-9111-7498B94338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F113-DEA2-47A5-80A4-F6C66E67A9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772C-C14C-4782-8F3B-35ADF73843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DCF9-721D-448E-9E2D-B20163328C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2496-B8BF-4AE9-9022-82A84CA761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5BA8-0353-4184-9260-CC3AE42452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0685-2E90-4A17-9ED3-0395217164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60D3-ED3F-4EDE-BE7E-04D51BA4C4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FEA6-1045-4846-8E47-CC29932DA7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5B30-393A-4539-9BEF-2994441198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EE89-04D1-486F-9F13-BC0DFE8F04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5145-E9A4-49B4-B3BD-EA89446B83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4642-FA4D-442E-896E-F75DD18BBD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85A4-270D-41D6-871B-34A1320049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0DE0-65B8-4434-917C-061DB5CFD9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7199-5CC8-4584-A3CD-1E26E1055D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6BB7-5B23-42F8-8634-79201C0B37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B77E-D599-4433-8FF2-E3852CB26A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4DB2-41E0-44C9-8F28-8F5529F96A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5BC0-AEAA-4915-908D-38470F1CF7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690480" y="2990880"/>
            <a:ext cx="77630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69633" descr=""/>
          <p:cNvPicPr/>
          <p:nvPr/>
        </p:nvPicPr>
        <p:blipFill>
          <a:blip r:embed="rId1"/>
          <a:stretch/>
        </p:blipFill>
        <p:spPr>
          <a:xfrm>
            <a:off x="262080" y="1052640"/>
            <a:ext cx="8619840" cy="347652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69634" descr=""/>
          <p:cNvPicPr/>
          <p:nvPr/>
        </p:nvPicPr>
        <p:blipFill>
          <a:blip r:embed="rId2"/>
          <a:stretch/>
        </p:blipFill>
        <p:spPr>
          <a:xfrm>
            <a:off x="826920" y="4653000"/>
            <a:ext cx="8029800" cy="10476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2714760" y="3962520"/>
            <a:ext cx="504720" cy="438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4"/>
          <a:stretch/>
        </p:blipFill>
        <p:spPr>
          <a:xfrm>
            <a:off x="3276720" y="4610160"/>
            <a:ext cx="504720" cy="438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5"/>
          <a:stretch/>
        </p:blipFill>
        <p:spPr>
          <a:xfrm>
            <a:off x="6012000" y="4624560"/>
            <a:ext cx="1008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68609" descr=""/>
          <p:cNvPicPr/>
          <p:nvPr/>
        </p:nvPicPr>
        <p:blipFill>
          <a:blip r:embed="rId1"/>
          <a:stretch/>
        </p:blipFill>
        <p:spPr>
          <a:xfrm>
            <a:off x="271440" y="1409760"/>
            <a:ext cx="8601120" cy="4038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2757600" y="3773520"/>
            <a:ext cx="504720" cy="438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5450040" y="3789360"/>
            <a:ext cx="50472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4"/>
          <a:stretch/>
        </p:blipFill>
        <p:spPr>
          <a:xfrm>
            <a:off x="2700360" y="4365720"/>
            <a:ext cx="9349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67585" descr=""/>
          <p:cNvPicPr/>
          <p:nvPr/>
        </p:nvPicPr>
        <p:blipFill>
          <a:blip r:embed="rId1"/>
          <a:stretch/>
        </p:blipFill>
        <p:spPr>
          <a:xfrm>
            <a:off x="444600" y="115920"/>
            <a:ext cx="852012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66561" descr=""/>
          <p:cNvPicPr/>
          <p:nvPr/>
        </p:nvPicPr>
        <p:blipFill>
          <a:blip r:embed="rId1"/>
          <a:stretch/>
        </p:blipFill>
        <p:spPr>
          <a:xfrm>
            <a:off x="1362240" y="2557440"/>
            <a:ext cx="6419520" cy="1743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1258920" y="2608200"/>
            <a:ext cx="6626160" cy="438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1116000" y="3213000"/>
            <a:ext cx="6626160" cy="438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4"/>
          <a:stretch/>
        </p:blipFill>
        <p:spPr>
          <a:xfrm>
            <a:off x="1116000" y="3759120"/>
            <a:ext cx="66261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65537" descr=""/>
          <p:cNvPicPr/>
          <p:nvPr/>
        </p:nvPicPr>
        <p:blipFill>
          <a:blip r:embed="rId1"/>
          <a:stretch/>
        </p:blipFill>
        <p:spPr>
          <a:xfrm>
            <a:off x="233280" y="1676520"/>
            <a:ext cx="8677440" cy="35049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6026040" y="2895480"/>
            <a:ext cx="505080" cy="438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900000" y="3486240"/>
            <a:ext cx="505080" cy="438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971640" y="4653000"/>
            <a:ext cx="1296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图片 64513" descr=""/>
          <p:cNvPicPr/>
          <p:nvPr/>
        </p:nvPicPr>
        <p:blipFill>
          <a:blip r:embed="rId1"/>
          <a:stretch/>
        </p:blipFill>
        <p:spPr>
          <a:xfrm>
            <a:off x="382680" y="189000"/>
            <a:ext cx="8582040" cy="62960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2"/>
          <a:stretch/>
        </p:blipFill>
        <p:spPr>
          <a:xfrm>
            <a:off x="8101080" y="135576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04840" y="1538280"/>
            <a:ext cx="8734320" cy="37814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611280" y="2790720"/>
            <a:ext cx="792000" cy="312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2050920" y="2790720"/>
            <a:ext cx="792360" cy="312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971640" y="4086360"/>
            <a:ext cx="792000" cy="312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5219640" y="4086360"/>
            <a:ext cx="792360" cy="312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3419640" y="4527720"/>
            <a:ext cx="792000" cy="312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7"/>
          <a:stretch/>
        </p:blipFill>
        <p:spPr>
          <a:xfrm>
            <a:off x="1619280" y="4960800"/>
            <a:ext cx="122400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59410" descr=""/>
          <p:cNvPicPr/>
          <p:nvPr/>
        </p:nvPicPr>
        <p:blipFill>
          <a:blip r:embed="rId1"/>
          <a:stretch/>
        </p:blipFill>
        <p:spPr>
          <a:xfrm>
            <a:off x="214200" y="700200"/>
            <a:ext cx="8715600" cy="56862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8317080" y="1239840"/>
            <a:ext cx="360360" cy="312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6156360" y="5141880"/>
            <a:ext cx="3603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58373" descr=""/>
          <p:cNvPicPr/>
          <p:nvPr/>
        </p:nvPicPr>
        <p:blipFill>
          <a:blip r:embed="rId1"/>
          <a:stretch/>
        </p:blipFill>
        <p:spPr>
          <a:xfrm>
            <a:off x="223920" y="866880"/>
            <a:ext cx="8696160" cy="5657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8317080" y="836640"/>
            <a:ext cx="360360" cy="312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8317080" y="2133720"/>
            <a:ext cx="360360" cy="312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1144440" y="5632560"/>
            <a:ext cx="1079640" cy="31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57352" descr=""/>
          <p:cNvPicPr/>
          <p:nvPr/>
        </p:nvPicPr>
        <p:blipFill>
          <a:blip r:embed="rId1"/>
          <a:stretch/>
        </p:blipFill>
        <p:spPr>
          <a:xfrm>
            <a:off x="276120" y="1123920"/>
            <a:ext cx="8591760" cy="46101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8043840" y="292428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56324" descr=""/>
          <p:cNvPicPr/>
          <p:nvPr/>
        </p:nvPicPr>
        <p:blipFill>
          <a:blip r:embed="rId1"/>
          <a:stretch/>
        </p:blipFill>
        <p:spPr>
          <a:xfrm>
            <a:off x="266760" y="771480"/>
            <a:ext cx="8610480" cy="57531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8101080" y="198900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55300" descr=""/>
          <p:cNvPicPr/>
          <p:nvPr/>
        </p:nvPicPr>
        <p:blipFill>
          <a:blip r:embed="rId1"/>
          <a:stretch/>
        </p:blipFill>
        <p:spPr>
          <a:xfrm>
            <a:off x="257040" y="1433520"/>
            <a:ext cx="8629920" cy="39909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8072280" y="2637000"/>
            <a:ext cx="505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54276" descr=""/>
          <p:cNvPicPr/>
          <p:nvPr/>
        </p:nvPicPr>
        <p:blipFill>
          <a:blip r:embed="rId1"/>
          <a:stretch/>
        </p:blipFill>
        <p:spPr>
          <a:xfrm>
            <a:off x="252360" y="2004840"/>
            <a:ext cx="8639280" cy="28483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8028000" y="206064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52231" descr=""/>
          <p:cNvPicPr/>
          <p:nvPr/>
        </p:nvPicPr>
        <p:blipFill>
          <a:blip r:embed="rId1"/>
          <a:stretch/>
        </p:blipFill>
        <p:spPr>
          <a:xfrm>
            <a:off x="266760" y="1138320"/>
            <a:ext cx="8610480" cy="45813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3059280" y="403380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6156360" y="4033800"/>
            <a:ext cx="720720" cy="438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8244000" y="4638600"/>
            <a:ext cx="720720" cy="438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755640" y="5229360"/>
            <a:ext cx="720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2:50:4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